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0E17-F2E5-4B47-9536-425DBE4B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AC38-C46C-40DB-8628-D813144D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2E54-EDCB-4966-8A1B-C2A3B23E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B36E-60D5-4C7D-A6D6-D258E3E6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517F-0A1F-43B3-9FD4-7FA5890D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7682-0DF3-4107-87C7-57DE00A2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D1DE-0B3D-4A27-83DD-A38821A4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29EE-BD20-4EA0-A09D-8D4DB902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FD6D-69C2-4090-8E27-73F1CD6C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96CE-DE3E-422E-8B12-B0431B23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9A68-6BCB-4B2D-9852-08CF8199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8E8-8056-4559-B8AE-147F3659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2D39-9B6E-4AA3-9D71-6809D6CA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347B-71A0-43E4-8DD3-2B32E67F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5EA6-AF1E-4791-9B48-69926DE8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F8B6-676B-403D-8A5E-AD8FA142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E8D7-C28C-4E5E-AB0B-6923741C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B1D2-2575-4A8E-BFD1-CACFB218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4031-DCBD-4D94-BC70-5EB9E84B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ACE4-8D48-4EAB-A468-C659C794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0BB-811E-47E1-BE7C-E592E5CE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228E-CE1F-429C-BE0C-05E0991D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202E-30C9-404A-A831-CB889C43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E787-6ED5-4531-B0BE-6912A864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E222-65B1-47AE-AF56-897A334493F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A772-42A9-495A-B4C9-372568A155B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ience.howstuff.works.com/oil-refining2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1142640"/>
            <a:ext cx="1752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Bookman Old Style"/>
              </a:rPr>
              <a:t>Oil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How “Black Gold” Has Shaped Southwest As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380988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10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Bookman Old Style"/>
              </a:rPr>
              <a:t>Terms to Know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oil reser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-crude 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-refine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-non-renewable resou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-renewable resou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-developed cou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-alternative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g.357-35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Bookman Old Style"/>
              </a:rPr>
              <a:t>1.  Write your term her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95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2.  Define your term in this box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14720" y="1980720"/>
            <a:ext cx="3695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3.  Draw / illustrate your term in this bo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050840" y="4264200"/>
            <a:ext cx="352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4.  Write two pieces of information about your te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37040" y="4222800"/>
            <a:ext cx="36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4.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man Old Style"/>
              </a:rPr>
              <a:t>“Your term”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is related to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man Old Style"/>
              </a:rPr>
              <a:t>“your partner’s term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because…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14400" y="1676520"/>
          <a:ext cx="7772040" cy="4647600"/>
        </p:xfrm>
        <a:graphic>
          <a:graphicData uri="http://schemas.openxmlformats.org/drawingml/2006/table">
            <a:tbl>
              <a:tblPr/>
              <a:tblGrid>
                <a:gridCol w="3885840"/>
                <a:gridCol w="3886200"/>
              </a:tblGrid>
              <a:tr h="23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Bookman Old Style"/>
              </a:rPr>
              <a:t>Oil Refinery Animatio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Bookman Old Style"/>
                <a:hlinkClick r:id="rId1"/>
              </a:rPr>
              <a:t>http://science.howstuffworks.com/oil-refining2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ookman Old Style"/>
              </a:rPr>
              <a:t>The Middle Ea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05320" y="1733400"/>
            <a:ext cx="5333760" cy="4667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14400" y="1905120"/>
            <a:ext cx="266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Sy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Ira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Ir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Kuwa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Saudi Arab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Bahr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Qa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United Arab Emir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O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Ye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*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These 10 countries contain about half of the world’s known oil reserve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Bookman Old Style"/>
              </a:rPr>
              <a:t>Worldwide Demand for Oil is High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Crude oil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is the unrefined form of petroleum pulled from the grou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What do we use oil for? 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Developed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countries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use it for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ranspor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wer pl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onsumer products-(some of the things that we buy at the st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aeaea"/>
                </a:solidFill>
                <a:uFillTx/>
                <a:latin typeface="Bookman Old Style"/>
              </a:rPr>
              <a:t>Crude Oi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0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ray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lastic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heating oi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jet fu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kerose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gasolin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ir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09680" y="1981080"/>
            <a:ext cx="370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roofing shing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spha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lo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erfu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edic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ynthetic fi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40328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371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Bookman Old Style"/>
              </a:rPr>
              <a:t>Is the Raw Material Used To Mak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Bookman Old Style"/>
              </a:rPr>
              <a:t>Demand for Oil Has Brought Wealth to This Regio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Cities and culture that have been around for centuries have changed in just a few dec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3200400" cy="2439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295280" y="5638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A port city in Dubai, UAE forty years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952880" y="302904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077800" y="5715000"/>
            <a:ext cx="29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A city in Dubai, UAE to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96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Bookman Old Style"/>
              </a:rPr>
              <a:t>Dubai – </a:t>
            </a:r>
            <a:r>
              <a:rPr b="1" lang="en-US" sz="3200" spc="-1" strike="noStrike">
                <a:solidFill>
                  <a:srgbClr val="eaeaea"/>
                </a:solidFill>
                <a:latin typeface="Bookman Old Style"/>
              </a:rPr>
              <a:t>A City of Wealth/Growth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4572000" cy="2774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14400" y="4724280"/>
            <a:ext cx="2895480" cy="1944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114800" y="4724280"/>
            <a:ext cx="2666880" cy="1906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914400" y="1828800"/>
            <a:ext cx="2781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Bookman Old Style"/>
              </a:rPr>
              <a:t>Alternatives to Oi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Oil is a 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non-renewable resou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When it runs out…we’re out of lu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We have to start our transition to alternative energy 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Like…..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Bookman Old Style"/>
              </a:rPr>
              <a:t>Alternatives to Oi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4920" y="4190760"/>
            <a:ext cx="1600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olar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2438280" cy="2149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505320" y="1905120"/>
            <a:ext cx="2011320" cy="2900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715000" y="1905120"/>
            <a:ext cx="3228840" cy="2412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525480" y="487692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ind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78760" y="431172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Hydroelectr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Bookman Old Style"/>
              </a:rPr>
              <a:t>Alternatives to Oi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2743200" cy="2415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463760" y="4267080"/>
            <a:ext cx="28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Geothermal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2819520" cy="2444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338800" y="438768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uclear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6:10:16Z</dcterms:created>
  <dc:creator> </dc:creator>
  <dc:description/>
  <dc:language>en-US</dc:language>
  <cp:lastModifiedBy>Brian Lytle</cp:lastModifiedBy>
  <dcterms:modified xsi:type="dcterms:W3CDTF">2009-04-08T02:30:00Z</dcterms:modified>
  <cp:revision>8</cp:revision>
  <dc:subject/>
  <dc:title>Slide 1</dc:title>
</cp:coreProperties>
</file>